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hzipup01.wav" ContentType="audio/x-wav"/>
  <Override PartName="/ppt/media/peopleooo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C3FE-63F0-49ED-95AE-0D309831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99B-84ED-48DE-ADEF-5C7D1D68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6AE-E6C3-43A4-B7BB-6656D905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B1F-988A-42DD-ACA5-3F8947E9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DDF-FEFF-4426-9C1F-80DDEA48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4A3-E403-495F-ACEB-6B998714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CDF-9DB3-4EBA-911E-2C9A76FA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49A-3D6B-477D-AF55-B56389B1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5909-5639-416D-98FA-6B445040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B62-3058-4810-A2D1-C2C464BD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770-B836-4888-A903-DE229E24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7A3-9BC2-4063-B592-4D07AD4D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F3AB-2948-4469-B862-4A3850962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peopleooo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peopleooo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peopleooo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peopleooo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Perime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8000000">
            <a:off x="1366560" y="187452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2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25720" y="1766880"/>
            <a:ext cx="3438360" cy="1352520"/>
          </a:xfrm>
          <a:custGeom>
            <a:avLst/>
            <a:gdLst/>
            <a:ahLst/>
            <a:rect l="l" t="t" r="r" b="b"/>
            <a:pathLst>
              <a:path w="2166" h="852">
                <a:moveTo>
                  <a:pt x="0" y="852"/>
                </a:moveTo>
                <a:lnTo>
                  <a:pt x="2166" y="300"/>
                </a:lnTo>
                <a:lnTo>
                  <a:pt x="471" y="0"/>
                </a:lnTo>
                <a:lnTo>
                  <a:pt x="0" y="852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600000">
            <a:off x="3300120" y="13287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7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20700000">
            <a:off x="2873880" y="25923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9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241452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00760" y="45640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5800" y="307008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29320" y="3703680"/>
            <a:ext cx="76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9960" y="371628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91240" y="45244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07120" y="4525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51400" y="18050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52560" y="4471920"/>
            <a:ext cx="179388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8 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Perime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500000">
            <a:off x="1060920" y="163332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5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92640" y="14367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9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0700000">
            <a:off x="1868760" y="358272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3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73680" y="185112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56520" y="55245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21560" y="40305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4664160"/>
            <a:ext cx="76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46767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7000" y="54849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3320" y="5486400"/>
            <a:ext cx="8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7160" y="1195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90840" y="5172120"/>
            <a:ext cx="217656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3 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06560" y="1463760"/>
            <a:ext cx="2773440" cy="2392200"/>
          </a:xfrm>
          <a:custGeom>
            <a:avLst/>
            <a:gdLst/>
            <a:ahLst/>
            <a:rect l="l" t="t" r="r" b="b"/>
            <a:pathLst>
              <a:path w="1747" h="1507">
                <a:moveTo>
                  <a:pt x="0" y="931"/>
                </a:moveTo>
                <a:lnTo>
                  <a:pt x="1305" y="0"/>
                </a:lnTo>
                <a:lnTo>
                  <a:pt x="1747" y="614"/>
                </a:lnTo>
                <a:lnTo>
                  <a:pt x="1516" y="1238"/>
                </a:lnTo>
                <a:lnTo>
                  <a:pt x="460" y="1507"/>
                </a:lnTo>
                <a:lnTo>
                  <a:pt x="0" y="93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0760" y="267192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6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8080" y="320508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0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37400" y="32385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91320" y="249228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35000" y="1920960"/>
            <a:ext cx="3719520" cy="1600200"/>
          </a:xfrm>
          <a:custGeom>
            <a:avLst/>
            <a:gdLst/>
            <a:ahLst/>
            <a:rect l="l" t="t" r="r" b="b"/>
            <a:pathLst>
              <a:path w="2343" h="1008">
                <a:moveTo>
                  <a:pt x="451" y="0"/>
                </a:moveTo>
                <a:lnTo>
                  <a:pt x="2343" y="374"/>
                </a:lnTo>
                <a:lnTo>
                  <a:pt x="2189" y="1008"/>
                </a:lnTo>
                <a:lnTo>
                  <a:pt x="0" y="892"/>
                </a:lnTo>
                <a:lnTo>
                  <a:pt x="451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Perime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7760000">
            <a:off x="436320" y="202860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3 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720000">
            <a:off x="2644560" y="168228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1 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81360" y="276084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8 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11920" y="250668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3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56520" y="55245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21560" y="40305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4664160"/>
            <a:ext cx="76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46767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47000" y="54849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13320" y="5486400"/>
            <a:ext cx="8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5400" y="18511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90840" y="5172120"/>
            <a:ext cx="217656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8 f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20000">
            <a:off x="1931760" y="33429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6 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37400" y="32385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Perime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500000">
            <a:off x="389160" y="173808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7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28880" y="104148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3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13040" y="189216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5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90840" y="5172120"/>
            <a:ext cx="173520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2 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720000">
            <a:off x="1352160" y="302220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3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7800" y="1660680"/>
            <a:ext cx="2210040" cy="1585800"/>
          </a:xfrm>
          <a:custGeom>
            <a:avLst/>
            <a:gdLst/>
            <a:ahLst/>
            <a:rect l="l" t="t" r="r" b="b"/>
            <a:pathLst>
              <a:path w="1392" h="999">
                <a:moveTo>
                  <a:pt x="39" y="0"/>
                </a:moveTo>
                <a:lnTo>
                  <a:pt x="1392" y="0"/>
                </a:lnTo>
                <a:lnTo>
                  <a:pt x="1392" y="730"/>
                </a:lnTo>
                <a:lnTo>
                  <a:pt x="768" y="999"/>
                </a:lnTo>
                <a:lnTo>
                  <a:pt x="0" y="826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9800000">
            <a:off x="2572200" y="279360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4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73680" y="185112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3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56520" y="55245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21560" y="40305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4664160"/>
            <a:ext cx="76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46767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47000" y="54849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13320" y="5500800"/>
            <a:ext cx="8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7160" y="1195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37400" y="32385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1320" y="249228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9, 1 – 13 #1-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3T19:50:02Z</dcterms:modified>
  <cp:revision>54</cp:revision>
  <dc:subject/>
  <dc:title>Slide 1</dc:title>
</cp:coreProperties>
</file>